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52360" y="682200"/>
            <a:ext cx="4553280" cy="34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ar-SA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779B59-C26E-4188-90A3-0ACC5DB70F2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7427E1-C4EB-4D22-B56F-DE5AFCF3CF7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52F9CE-6AB3-4B6F-B67E-A3F86F19EEE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DC922F-E8E0-42D5-813F-6A862534D96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81426F-C850-4A94-BF02-E42BCF7E5D5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C1DB71-C80B-4CDF-9150-2D489752ACC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158381-121C-48E7-8757-DC5793BF9E0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604DA2-5A40-4FAE-A402-B25736E0189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823D7F-F50B-42B5-956E-DBBD9669A0C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6B8780-062C-4071-AA3C-26C85C2341D1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DD556D-2140-44D7-99BA-3BFCCD661ED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791287-2B73-4F4B-9F4E-7F256D38E5D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9590FB-1A88-4304-A813-7567CBEF144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66D58A-DDFF-433A-ACAC-D938D511857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601D69-D3CB-4D07-AF9E-6E721BC3D07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17DC93-CCF1-449D-9D56-2C6223B6C86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82EB49-1D94-4964-B27D-DD5ADDB1AED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C2E2A4-F1F3-4A77-9741-18DEC1AA4E65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714A9A-491C-4206-898B-26394A224CF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0CE0B8-4E6E-4039-9455-13704A36EB9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3124080" y="60958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Text Box 8">
            <a:hlinkClick r:id="" action="ppaction://hlinkshowjump?jump=previousslide"/>
          </p:cNvPr>
          <p:cNvSpPr/>
          <p:nvPr/>
        </p:nvSpPr>
        <p:spPr>
          <a:xfrm>
            <a:off x="3124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Text Box 9">
            <a:hlinkClick r:id="" action="ppaction://hlinkshowjump?jump=nextslide"/>
          </p:cNvPr>
          <p:cNvSpPr/>
          <p:nvPr/>
        </p:nvSpPr>
        <p:spPr>
          <a:xfrm>
            <a:off x="44197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Text Box 10">
            <a:hlinkClick r:id="" action="ppaction://hlinkshowjump?jump=firstslide"/>
          </p:cNvPr>
          <p:cNvSpPr/>
          <p:nvPr/>
        </p:nvSpPr>
        <p:spPr>
          <a:xfrm>
            <a:off x="5791320" y="6095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Text Box 11">
            <a:hlinkClick r:id="" action="ppaction://hlinkshowjump?jump=endshow"/>
          </p:cNvPr>
          <p:cNvSpPr/>
          <p:nvPr/>
        </p:nvSpPr>
        <p:spPr>
          <a:xfrm>
            <a:off x="7620120" y="60958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Text Box 13">
            <a:hlinkClick r:id="rId3" action="ppaction://hlinksldjump"/>
          </p:cNvPr>
          <p:cNvSpPr/>
          <p:nvPr/>
        </p:nvSpPr>
        <p:spPr>
          <a:xfrm>
            <a:off x="8077320" y="655308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4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4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4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The Tragedy of Julius Caesar </a:t>
            </a:r>
            <a:br>
              <a:rPr sz="3200"/>
            </a:b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William Shakespe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1828800" y="2590920"/>
            <a:ext cx="601992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2" action="ppaction://hlinksldjump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  <a:hlinkClick r:id="rId3" action="ppaction://hlinksldjump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99"/>
                </a:solidFill>
                <a:uFillTx/>
                <a:latin typeface="Verdana"/>
              </a:rPr>
              <a:t>Discussion Star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19051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Men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3" descr="Z:\Production\Melissa\HTML Project\Incoming\NovelNotes_Images_for_Lason\ceasar\2723654-1580x2400.jpg"/>
          <p:cNvPicPr/>
          <p:nvPr/>
        </p:nvPicPr>
        <p:blipFill>
          <a:blip r:embed="rId2"/>
          <a:stretch/>
        </p:blipFill>
        <p:spPr>
          <a:xfrm>
            <a:off x="2584440" y="530280"/>
            <a:ext cx="3975120" cy="2620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85800" y="2514600"/>
            <a:ext cx="8001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ome senators begin to conspire. .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Brutus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Caesar’s friend who believes that he must act against Caesar for the good of Rome 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Casca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who hates the ordinary citizens of Rome yet is jealous because they love Caesar and not him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cc00"/>
                </a:solidFill>
                <a:latin typeface="Verdana"/>
              </a:rPr>
              <a:t>Cassius</a:t>
            </a: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 a greedy and jealous man who wants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o take drastic measures to keep Caesar from winning any more power—and to take away any power that Caesar previously ha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685800" y="25146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3" descr="Z:\Production\Melissa\HTML Project\Incoming\NovelNotes_Images_for_Lason\ceasar\4486351-2700x1801.jpg"/>
          <p:cNvPicPr/>
          <p:nvPr/>
        </p:nvPicPr>
        <p:blipFill>
          <a:blip r:embed="rId2"/>
          <a:stretch/>
        </p:blipFill>
        <p:spPr>
          <a:xfrm>
            <a:off x="684360" y="1297080"/>
            <a:ext cx="1928520" cy="28922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 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0"/>
          <p:cNvSpPr/>
          <p:nvPr/>
        </p:nvSpPr>
        <p:spPr>
          <a:xfrm>
            <a:off x="4343400" y="1295280"/>
            <a:ext cx="403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hakespeare uses Roman customs and superstition to create spooky conditions to mirror the dangerous plot being plan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Picture 54" descr="Z:\Production\Melissa\HTML Project\Incoming\NovelNotes_Images_for_Lason\ceasar\shutterstock_2811350.jpg"/>
          <p:cNvPicPr/>
          <p:nvPr/>
        </p:nvPicPr>
        <p:blipFill>
          <a:blip r:embed="rId3"/>
          <a:stretch/>
        </p:blipFill>
        <p:spPr>
          <a:xfrm>
            <a:off x="1442880" y="3583080"/>
            <a:ext cx="298944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6" descr="Z:\Production\Melissa\HTML Project\Incoming\NovelNotes_Images_for_Lason\ceasar\shutterstock_3153329.jpg"/>
          <p:cNvPicPr/>
          <p:nvPr/>
        </p:nvPicPr>
        <p:blipFill>
          <a:blip r:embed="rId2"/>
          <a:stretch/>
        </p:blipFill>
        <p:spPr>
          <a:xfrm>
            <a:off x="6095880" y="985680"/>
            <a:ext cx="2668680" cy="26686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 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"/>
          <p:cNvPicPr/>
          <p:nvPr/>
        </p:nvPicPr>
        <p:blipFill>
          <a:blip r:embed="rId3"/>
          <a:stretch/>
        </p:blipFill>
        <p:spPr>
          <a:xfrm>
            <a:off x="2590920" y="243828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2"/>
          <p:cNvSpPr/>
          <p:nvPr/>
        </p:nvSpPr>
        <p:spPr>
          <a:xfrm>
            <a:off x="609480" y="14479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Romans believed that omens could reveal the futu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533520" y="358128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se omens could take the form of unusual weather, flights of birds, or other natural phenome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27" descr="Z:\Production\Melissa\HTML Project\Incoming\NovelNotes_Images_for_Lason\ceasar\shutterstock_2752617.jpg"/>
          <p:cNvPicPr/>
          <p:nvPr/>
        </p:nvPicPr>
        <p:blipFill>
          <a:blip r:embed="rId4"/>
          <a:stretch/>
        </p:blipFill>
        <p:spPr>
          <a:xfrm>
            <a:off x="3957480" y="2970360"/>
            <a:ext cx="3711600" cy="277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0" descr="Z:\Production\Melissa\HTML Project\Incoming\NovelNotes_Images_for_Lason\ceasar\shutterstock_908940.jpg"/>
          <p:cNvPicPr/>
          <p:nvPr/>
        </p:nvPicPr>
        <p:blipFill>
          <a:blip r:embed="rId2"/>
          <a:stretch/>
        </p:blipFill>
        <p:spPr>
          <a:xfrm>
            <a:off x="5940360" y="3427560"/>
            <a:ext cx="2587680" cy="19414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53352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nimals were seen as indicators of the futur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15"/>
          <p:cNvSpPr/>
          <p:nvPr/>
        </p:nvSpPr>
        <p:spPr>
          <a:xfrm>
            <a:off x="457200" y="1905120"/>
            <a:ext cx="4495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Romans often sacrificed animals to the gods, and had their entrails (guts) examined by an official called a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haruspex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. Any abnormalities or imperfections indicated the anger of a god or a particularly bad event about to happ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16" descr=""/>
          <p:cNvPicPr/>
          <p:nvPr/>
        </p:nvPicPr>
        <p:blipFill>
          <a:blip r:embed="rId3"/>
          <a:stretch/>
        </p:blipFill>
        <p:spPr>
          <a:xfrm>
            <a:off x="7848720" y="12952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9" descr="Z:\Production\Melissa\HTML Project\Incoming\NovelNotes_Images_for_Lason\ceasar\shutterstock_2594029.jpg"/>
          <p:cNvPicPr/>
          <p:nvPr/>
        </p:nvPicPr>
        <p:blipFill>
          <a:blip r:embed="rId4"/>
          <a:stretch/>
        </p:blipFill>
        <p:spPr>
          <a:xfrm>
            <a:off x="5108400" y="1900080"/>
            <a:ext cx="1984680" cy="29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4" descr="Z:\Production\Melissa\HTML Project\Incoming\NovelNotes_Images_for_Lason\ceasar\shutterstock_2353402.jpg"/>
          <p:cNvPicPr/>
          <p:nvPr/>
        </p:nvPicPr>
        <p:blipFill>
          <a:blip r:embed="rId2"/>
          <a:stretch/>
        </p:blipFill>
        <p:spPr>
          <a:xfrm>
            <a:off x="5483160" y="1982880"/>
            <a:ext cx="3006720" cy="2016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09480" y="1447920"/>
            <a:ext cx="3962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nusual astronomical and meteorological occurrences were also seen as signs of future ev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533520" y="37339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olar eclipses were believed to foreshadow doom, as was lightn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13" descr=""/>
          <p:cNvPicPr/>
          <p:nvPr/>
        </p:nvPicPr>
        <p:blipFill>
          <a:blip r:embed="rId3"/>
          <a:stretch/>
        </p:blipFill>
        <p:spPr>
          <a:xfrm>
            <a:off x="3200400" y="312408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5" descr="Z:\Production\Melissa\HTML Project\Incoming\NovelNotes_Images_for_Lason\ceasar\shutterstock_3188216.jpg"/>
          <p:cNvPicPr/>
          <p:nvPr/>
        </p:nvPicPr>
        <p:blipFill>
          <a:blip r:embed="rId4"/>
          <a:stretch/>
        </p:blipFill>
        <p:spPr>
          <a:xfrm>
            <a:off x="4570560" y="3583080"/>
            <a:ext cx="3089160" cy="20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09480" y="14479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One of the reasons the Senate was concerned by Caesar’s accumulation of power was Rome’s long history as a republi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11" descr="Z:\Production\Melissa\HTML Project\Incoming\NovelNotes_Images_for_Lason\ceasar\5076228-1602x2400.jpg"/>
          <p:cNvPicPr/>
          <p:nvPr/>
        </p:nvPicPr>
        <p:blipFill>
          <a:blip r:embed="rId2"/>
          <a:stretch/>
        </p:blipFill>
        <p:spPr>
          <a:xfrm>
            <a:off x="2585880" y="2814480"/>
            <a:ext cx="4132440" cy="27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 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09480" y="144792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round 509 </a:t>
            </a:r>
            <a:r>
              <a:rPr b="0" lang="en-US" sz="1800" spc="-1" strike="noStrike">
                <a:solidFill>
                  <a:srgbClr val="ffff99"/>
                </a:solidFill>
                <a:latin typeface="Verdana"/>
              </a:rPr>
              <a:t>B.C.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, the Romans ended a monarchy by rebelling against the last king of Rome, Tarquiniu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13" descr="Z:\Production\Melissa\HTML Project\Incoming\NovelNotes_Images_for_Lason\ceasar\shutterstock_3081546.jpg"/>
          <p:cNvPicPr/>
          <p:nvPr/>
        </p:nvPicPr>
        <p:blipFill>
          <a:blip r:embed="rId2"/>
          <a:stretch/>
        </p:blipFill>
        <p:spPr>
          <a:xfrm>
            <a:off x="5027760" y="1214280"/>
            <a:ext cx="3263760" cy="43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1920" y="2174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: Backgroun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4267080" y="3505320"/>
            <a:ext cx="4419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y were very proud of their non-king ruled government, and were determined to preserve it—but when Caesar arrived, they changed their mind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267080" y="1295280"/>
            <a:ext cx="4496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fter this revolution, the Romans established their famous republic, in which all citizens were represented in the Sen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9" descr=""/>
          <p:cNvPicPr/>
          <p:nvPr/>
        </p:nvPicPr>
        <p:blipFill>
          <a:blip r:embed="rId2"/>
          <a:stretch/>
        </p:blipFill>
        <p:spPr>
          <a:xfrm>
            <a:off x="8534520" y="29718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Z:\Production\Melissa\HTML Project\Incoming\NovelNotes_Images_for_Lason\ceasar\4521980-2484x2012.jpg"/>
          <p:cNvPicPr/>
          <p:nvPr/>
        </p:nvPicPr>
        <p:blipFill>
          <a:blip r:embed="rId3"/>
          <a:stretch/>
        </p:blipFill>
        <p:spPr>
          <a:xfrm>
            <a:off x="455760" y="1370160"/>
            <a:ext cx="3263760" cy="403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 : Discussion Starters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Discussion starter topic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1. How important is loyal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oes your country or do your friends consider “loyalty” something to value? When can “loyalty” sometimes cause proble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should people do when loyalty to their country and loyalty to their friend comes into confli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re there limits to what people should do in defense of the n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: Discussion Starter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Discussion starter topic 2: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2. What will a person do for the sake of political ide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ssassinations of political figures are common in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political figures do you know of who have been assassina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90000"/>
              </a:lnSpc>
              <a:spcBef>
                <a:spcPts val="1500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What effect did these assassinations have on the general public, a political party, or a cause at the time of the assassin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The Tragedy of Julius Caesar</a:t>
            </a:r>
            <a:br>
              <a:rPr sz="3200"/>
            </a:b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William Shakespe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mages provided by Jupiter Images and Shutter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>
            <a:hlinkClick r:id="" action="ppaction://hlinkshowjump?jump=previousslide"/>
          </p:cNvPr>
          <p:cNvSpPr/>
          <p:nvPr/>
        </p:nvSpPr>
        <p:spPr>
          <a:xfrm>
            <a:off x="7696080" y="60958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The Tragedy of Julius Caesar</a:t>
            </a:r>
            <a:br>
              <a:rPr sz="3200"/>
            </a:b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William Shakespe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Z:\Production\Melissa\HTML_Project\Incoming\NovelNotes_Images_for_Lason\ceasar\shutterstock_2533080.jpg"/>
          <p:cNvPicPr/>
          <p:nvPr/>
        </p:nvPicPr>
        <p:blipFill>
          <a:blip r:embed="rId2"/>
          <a:stretch/>
        </p:blipFill>
        <p:spPr>
          <a:xfrm>
            <a:off x="2057400" y="1523880"/>
            <a:ext cx="5410080" cy="42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>
            <a:hlinkClick r:id="rId2" action="ppaction://hlinksldjump"/>
          </p:cNvPr>
          <p:cNvSpPr/>
          <p:nvPr/>
        </p:nvSpPr>
        <p:spPr>
          <a:xfrm>
            <a:off x="7612200" y="5987880"/>
            <a:ext cx="1350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4">
            <a:hlinkClick r:id="rId3" action="ppaction://hlinksldjump"/>
          </p:cNvPr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48"/>
          <p:cNvSpPr/>
          <p:nvPr/>
        </p:nvSpPr>
        <p:spPr>
          <a:xfrm>
            <a:off x="762120" y="12193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setting of this play is ancient Rom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49"/>
          <p:cNvSpPr/>
          <p:nvPr/>
        </p:nvSpPr>
        <p:spPr>
          <a:xfrm>
            <a:off x="762120" y="44956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Shakespeare creates a world full of political intrigue, magical occurrences, and military conque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Picture 51" descr=""/>
          <p:cNvPicPr/>
          <p:nvPr/>
        </p:nvPicPr>
        <p:blipFill>
          <a:blip r:embed="rId4"/>
          <a:stretch/>
        </p:blipFill>
        <p:spPr>
          <a:xfrm>
            <a:off x="7238880" y="1447920"/>
            <a:ext cx="133560" cy="88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:\Production\Melissa\HTML Project\Incoming\NovelNotes_Images_for_Lason\ceasar\shutterstock_3276704.jpg"/>
          <p:cNvPicPr/>
          <p:nvPr/>
        </p:nvPicPr>
        <p:blipFill>
          <a:blip r:embed="rId5"/>
          <a:stretch/>
        </p:blipFill>
        <p:spPr>
          <a:xfrm>
            <a:off x="2585880" y="1827360"/>
            <a:ext cx="3894120" cy="259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3" descr="Z:\Production\Melissa\HTML_Project\Incoming\NovelNotes_Images_for_Lason\ceasar\shutterstock_2031901.jpg"/>
          <p:cNvPicPr/>
          <p:nvPr/>
        </p:nvPicPr>
        <p:blipFill>
          <a:blip r:embed="rId2"/>
          <a:stretch/>
        </p:blipFill>
        <p:spPr>
          <a:xfrm>
            <a:off x="6197760" y="1981080"/>
            <a:ext cx="2489040" cy="3810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>
            <a:hlinkClick r:id="rId3" action="ppaction://hlinksldjump"/>
          </p:cNvPr>
          <p:cNvSpPr/>
          <p:nvPr/>
        </p:nvSpPr>
        <p:spPr>
          <a:xfrm>
            <a:off x="7612200" y="5987880"/>
            <a:ext cx="1350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4">
            <a:hlinkClick r:id="rId4" action="ppaction://hlinksldjump"/>
          </p:cNvPr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609480" y="1447920"/>
            <a:ext cx="3353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aesar, the most powerful man in Rome, has recently returned to the city after months of fighting abro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1" name="Picture 20" descr="Z:\Production\Melissa\HTML Project\Incoming\NovelNotes_Images_for_Lason\ceasar\5266071-2400x1400.jpg"/>
          <p:cNvPicPr/>
          <p:nvPr/>
        </p:nvPicPr>
        <p:blipFill>
          <a:blip r:embed="rId5"/>
          <a:stretch/>
        </p:blipFill>
        <p:spPr>
          <a:xfrm>
            <a:off x="4419720" y="1447920"/>
            <a:ext cx="1909800" cy="32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7612200" y="5987880"/>
            <a:ext cx="1350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4191120" y="16765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0"/>
          <p:cNvSpPr/>
          <p:nvPr/>
        </p:nvSpPr>
        <p:spPr>
          <a:xfrm>
            <a:off x="457200" y="10666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aesar was fighting Pompey, another powerful Roman, and his s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 Box 41"/>
          <p:cNvSpPr/>
          <p:nvPr/>
        </p:nvSpPr>
        <p:spPr>
          <a:xfrm>
            <a:off x="533520" y="251460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Pompey, as well as others in the Roman senate, was disturbed by Caesar’s growing amb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Picture 43" descr="Z:\Production\Melissa\HTML Project\Incoming\NovelNotes_Images_for_Lason\ceasar\5076228-1602x2400.jpg"/>
          <p:cNvPicPr/>
          <p:nvPr/>
        </p:nvPicPr>
        <p:blipFill>
          <a:blip r:embed="rId3"/>
          <a:stretch/>
        </p:blipFill>
        <p:spPr>
          <a:xfrm>
            <a:off x="4724280" y="2440080"/>
            <a:ext cx="3748320" cy="24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9" descr="Z:\Production\Melissa\HTML Project\Incoming\NovelNotes_Images_for_Lason\ceasar\shutterstock_1629145.jpg"/>
          <p:cNvPicPr/>
          <p:nvPr/>
        </p:nvPicPr>
        <p:blipFill>
          <a:blip r:embed="rId2"/>
          <a:stretch/>
        </p:blipFill>
        <p:spPr>
          <a:xfrm>
            <a:off x="1370160" y="3500280"/>
            <a:ext cx="3483000" cy="2320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7612200" y="5987880"/>
            <a:ext cx="1350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609480" y="1219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ir fears seem to be valid when Caesar refuses to enter Rome as an ordinary citizen after the w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609480" y="25146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Instead, he marches his army on Rome and takes over the govern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Picture 30" descr="Z:\Production\Melissa\HTML Project\Incoming\NovelNotes_Images_for_Lason\ceasar\shutterstock_1985514.jpg"/>
          <p:cNvPicPr/>
          <p:nvPr/>
        </p:nvPicPr>
        <p:blipFill>
          <a:blip r:embed="rId3"/>
          <a:stretch/>
        </p:blipFill>
        <p:spPr>
          <a:xfrm>
            <a:off x="4414680" y="3354480"/>
            <a:ext cx="3227400" cy="247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7612200" y="5987880"/>
            <a:ext cx="13507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Picture 19" descr=""/>
          <p:cNvPicPr/>
          <p:nvPr/>
        </p:nvPicPr>
        <p:blipFill>
          <a:blip r:embed="rId2"/>
          <a:stretch/>
        </p:blipFill>
        <p:spPr>
          <a:xfrm>
            <a:off x="2514600" y="2362320"/>
            <a:ext cx="133200" cy="88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1"/>
          <p:cNvSpPr/>
          <p:nvPr/>
        </p:nvSpPr>
        <p:spPr>
          <a:xfrm>
            <a:off x="609480" y="1447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But the people don’t mind—in fact, they love hi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685800" y="3048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Caesar is made </a:t>
            </a:r>
            <a:r>
              <a:rPr b="0" i="1" lang="en-US" sz="2400" spc="-1" strike="noStrike">
                <a:solidFill>
                  <a:srgbClr val="ffff99"/>
                </a:solidFill>
                <a:latin typeface="Verdana"/>
              </a:rPr>
              <a:t>dictator,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or ruler—a position that was sometimes granted for a ten-year term—for the rest of his life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24" descr="Z:\Production\Melissa\HTML Project\Incoming\NovelNotes_Images_for_Lason\ceasar\shutterstock_566270.jpg"/>
          <p:cNvPicPr/>
          <p:nvPr/>
        </p:nvPicPr>
        <p:blipFill>
          <a:blip r:embed="rId3"/>
          <a:stretch/>
        </p:blipFill>
        <p:spPr>
          <a:xfrm>
            <a:off x="4879800" y="1525680"/>
            <a:ext cx="3035520" cy="404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Verdana"/>
              </a:rPr>
              <a:t>Julius Caesar: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764480" y="6140520"/>
            <a:ext cx="135108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533520" y="20574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Many senators, however, resent Caesar for having so much po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Picture 22" descr="Z:\Production\Melissa\HTML Project\Incoming\NovelNotes_Images_for_Lason\ceasar\shutterstock_2402541.jpg"/>
          <p:cNvPicPr/>
          <p:nvPr/>
        </p:nvPicPr>
        <p:blipFill>
          <a:blip r:embed="rId2"/>
          <a:stretch/>
        </p:blipFill>
        <p:spPr>
          <a:xfrm>
            <a:off x="4643280" y="1370160"/>
            <a:ext cx="3419640" cy="4416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06:00:44Z</dcterms:created>
  <dc:creator>Jody Frank; adapted by Jana Andrews</dc:creator>
  <dc:description/>
  <cp:keywords/>
  <dc:language>en-US</dc:language>
  <cp:lastModifiedBy>ScOrPiOnE</cp:lastModifiedBy>
  <dcterms:modified xsi:type="dcterms:W3CDTF">2011-10-27T00:01:43Z</dcterms:modified>
  <cp:revision>701</cp:revision>
  <dc:subject/>
  <dc:title>PowerPoint Presentation  -  Julius Caesar</dc:title>
</cp:coreProperties>
</file>